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C6B-335E-464F-9B5A-297076F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CD2-D7A5-45FA-97F2-07195B57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AD5-31CE-471E-B8B1-35625FC2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FE0-BFAC-4EEC-A725-8101F9F3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BDE4-C6A8-4291-BE21-4A85FF2C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8EE-0429-4BE7-8F81-097F2A1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4BC-43D5-4956-8092-99F8FC8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C28B-0F6A-4E5E-A7DC-D087ABCD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EA74-D102-41A1-A90B-F30A99B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A18-1B5D-42CF-A4B8-8607DDA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B841-E0A7-4FFC-A84A-4AA13EE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2F3-5AEB-41AC-AF64-D6E3298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858D-2FEC-4A4C-A4DC-D1707E8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7DF-D382-45C5-B017-DB0E405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4E90-B5BE-4DA0-B94C-6F5C4D1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2416-8017-435D-A940-EE9DA242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6F3-9DD1-4D1F-8E99-E485B02B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52E-FEB1-4C24-8069-D207871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0BE-300E-4DC8-BEDB-819920A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683-1D7F-44A6-B7F1-364734B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8E0-51F7-41FC-9227-CF0BA01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77F-C0FC-4BDD-B337-1C3C537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550-6701-4E58-86ED-8F574C6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902-447A-4D14-B0A2-7C06789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D8C-6D5D-4748-8D79-DEFA82F977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313-3776-49CF-8C15-776247CE9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496680" y="456840"/>
            <a:ext cx="8229600" cy="5853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стный журна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Синичкин праздни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страница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ноября –Зиновий или Синичкин праздник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одная мудрость гласит: «невелика птичка- синичка а и то свой праздник помнит»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родном календаре этот день считается днём прилёта птиц-зимников. С этого дня в старину начинали развешивать кормушки для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страниц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иничья стай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нохвостая синица (ополовни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хлатая синица (гренадёр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м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атая си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иннохвостая синица или ополовн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687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оголовая гаи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30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179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страниц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чья столов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удно птицам живётся зимой: холодно и голодно. Холод ещё не так страшен, страшна зимняя бескормица. Каждая из синиц за день съедает столько насекомых, сколько весит са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этическ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тая си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найдёшь синицы яр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усатый наш гусар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ь, в болотах он живё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стникам одним по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нохвостая синица-опол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енький половни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лозняке домовнич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 пушист и длиннохв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ик строил на прир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ме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мез наш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чной пернатый ткачик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трый мастер он среди сини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остниковый пух свой домик спряч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вом свяжет варежку без сп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гров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ая птичка названа за небесно-голубой цв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то такая гренадёрка и почему  так назва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Чьи дупла заселяют синич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Какая синичка сама выдалбливает дупл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Какая из птиц, кочующих с синичьей стайкой, бегает по дереву вниз голов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ая из птиц, кочующих с синичьей стайкой, прежде чем вселиться в дупло, обмазывает вход – леток, глиной, уменьшая 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У какого дятла вход в дупло не круглый, а прямоугольны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Назовите синичек, которые могут заготавливать корм впр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акую из птиц, кочующую близ синичьей стайки, называют сеятельницей дуб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акие птицы, кочующие с синичьей стайкой, заготавливают корм впр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Какую из птиц, кочующих с синичьей стайкой, называют по голосу-пис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Какая из синичек самая крупна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